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EFB7-CB98-4C77-9888-3E119491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0D3-DF91-49A0-B49D-5F67C8A9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BBA1-AD0E-46BE-9878-92403255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B023-EFC4-47E3-BCC9-6A9C3CE0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3503-B341-4D3F-A4DB-148AC760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842E-D439-4534-9EA9-93D04B50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F680-A611-4B89-A7EB-EB68C94C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0FC2-553A-4873-B31A-6BEC8D75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E64A-291B-4AF1-8E4A-EE2BCB43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794C-1592-4A69-B1A0-A892A1B3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FC2B-B866-44EF-B5D3-525030E0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E6BD-8857-490F-B07B-020B0CCF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27CE-DDB5-492B-9B3D-33364CFFA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hyperlink" Target="http://www.shkola-abv.ru/" TargetMode="External"/><Relationship Id="rId5" Type="http://schemas.openxmlformats.org/officeDocument/2006/relationships/hyperlink" Target="http://www.shkola-abv.ru/" TargetMode="External"/><Relationship Id="rId6" Type="http://schemas.openxmlformats.org/officeDocument/2006/relationships/hyperlink" Target="http://www.shkola-abv.ru/" TargetMode="External"/><Relationship Id="rId7" Type="http://schemas.openxmlformats.org/officeDocument/2006/relationships/hyperlink" Target="http://www.shkola-abv.ru/" TargetMode="External"/><Relationship Id="rId8" Type="http://schemas.openxmlformats.org/officeDocument/2006/relationships/hyperlink" Target="http://www.shkola-abv.ru/" TargetMode="External"/><Relationship Id="rId9" Type="http://schemas.openxmlformats.org/officeDocument/2006/relationships/hyperlink" Target="http://www.shkola-abv.ru/" TargetMode="External"/><Relationship Id="rId10" Type="http://schemas.openxmlformats.org/officeDocument/2006/relationships/hyperlink" Target="http://www.shkola-abv.ru/" TargetMode="External"/><Relationship Id="rId11" Type="http://schemas.openxmlformats.org/officeDocument/2006/relationships/hyperlink" Target="https://vk.com/shkola_abv" TargetMode="External"/><Relationship Id="rId12" Type="http://schemas.openxmlformats.org/officeDocument/2006/relationships/hyperlink" Target="https://vk.com/shkola_abv" TargetMode="Externa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2771640" y="115920"/>
            <a:ext cx="6216840" cy="11034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3"/>
          <a:stretch/>
        </p:blipFill>
        <p:spPr>
          <a:xfrm>
            <a:off x="523800" y="4376880"/>
            <a:ext cx="8139240" cy="2023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http://static1.ozone.ru/multimedia/books_covers/c200/1001203225.jpg"/>
          <p:cNvPicPr/>
          <p:nvPr/>
        </p:nvPicPr>
        <p:blipFill>
          <a:blip r:embed="rId4"/>
          <a:stretch/>
        </p:blipFill>
        <p:spPr>
          <a:xfrm>
            <a:off x="468360" y="549360"/>
            <a:ext cx="2484360" cy="360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357120" y="285840"/>
            <a:ext cx="457200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е открывай дверь чужим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оловьем поет звонок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жик выглянул в глазок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Ой! Хозяин! Помогите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верь скорее отворите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Я нечаянно упал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Что-то, кажется сломал..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Нет, открыть я не могу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о конечно, помогу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озвоню сейчас врачам -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усть они помогут ва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www.good-cook.ru/i/thbn/a/1/a19b941b76634ec2e9feaa29bbc0b227.jpg"/>
          <p:cNvPicPr/>
          <p:nvPr/>
        </p:nvPicPr>
        <p:blipFill>
          <a:blip r:embed="rId2"/>
          <a:srcRect l="19380" t="7503" r="16876" b="0"/>
          <a:stretch/>
        </p:blipFill>
        <p:spPr>
          <a:xfrm>
            <a:off x="5214960" y="1571760"/>
            <a:ext cx="3643200" cy="5286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lenagold.narod.ru/fon/clipart/m/medp/medik007.png"/>
          <p:cNvPicPr/>
          <p:nvPr/>
        </p:nvPicPr>
        <p:blipFill>
          <a:blip r:embed="rId3"/>
          <a:stretch/>
        </p:blipFill>
        <p:spPr>
          <a:xfrm>
            <a:off x="642960" y="4429080"/>
            <a:ext cx="1149480" cy="221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285840" y="298800"/>
            <a:ext cx="4357440" cy="302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Лифт стоит, открыта дверь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В нем чужой какой-то зверь..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Говорит он серой мышке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- Заходи скорей, малышка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ышка умницей была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 такой ответ дала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- Извините, не сейчас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днимусь я после вас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rcRect l="11771" t="0" r="19643" b="5982"/>
          <a:stretch/>
        </p:blipFill>
        <p:spPr>
          <a:xfrm>
            <a:off x="928800" y="3071880"/>
            <a:ext cx="3500280" cy="3786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s61.radikal.ru/i173/0904/b2/d782edc52db0.png"/>
          <p:cNvPicPr/>
          <p:nvPr/>
        </p:nvPicPr>
        <p:blipFill>
          <a:blip r:embed="rId3"/>
          <a:stretch/>
        </p:blipFill>
        <p:spPr>
          <a:xfrm>
            <a:off x="4714920" y="500040"/>
            <a:ext cx="4429080" cy="5194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85840" y="285840"/>
            <a:ext cx="4572000" cy="375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арсучок пришел домой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к устал - едва живой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мотрит: кто ж это тако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двери стоит чужой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рятал ключик барсучок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бормочет в кулачок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Где ж я ключик положил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ерно, дома позабыл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бегу пока гулять -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му с папой поджид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i034.radikal.ru/0904/a5/ef50953a740c.png"/>
          <p:cNvPicPr/>
          <p:nvPr/>
        </p:nvPicPr>
        <p:blipFill>
          <a:blip r:embed="rId2"/>
          <a:stretch/>
        </p:blipFill>
        <p:spPr>
          <a:xfrm>
            <a:off x="5078520" y="1214280"/>
            <a:ext cx="3813120" cy="5389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4286160" y="357120"/>
            <a:ext cx="4000680" cy="375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шла мама в магазин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имка дома сам - оди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трезвонил телефон -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щенка пропал весь сон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Алло, алло! Кто говорит?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па где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н здесь стои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т, он занят, извините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уть попозже позвоните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D:\клипарты\животные\собака 3.png"/>
          <p:cNvPicPr/>
          <p:nvPr/>
        </p:nvPicPr>
        <p:blipFill>
          <a:blip r:embed="rId2"/>
          <a:stretch/>
        </p:blipFill>
        <p:spPr>
          <a:xfrm>
            <a:off x="428760" y="1571760"/>
            <a:ext cx="3579840" cy="4952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285840" y="303120"/>
            <a:ext cx="4857840" cy="375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ышка с мамой попрощалась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 совсем одна осталась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лышит вдруг за дверью топот -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В дом попасть стремится кто-то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ышка в руки телефон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 бегом на свой балкон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брала скорей сто два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- Адрес мой: Лесная , два!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скорее приезжайте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т грабителей спасай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http://s55.radikal.ru/i149/0904/42/62630cdf10f4.png"/>
          <p:cNvPicPr/>
          <p:nvPr/>
        </p:nvPicPr>
        <p:blipFill>
          <a:blip r:embed="rId2"/>
          <a:stretch/>
        </p:blipFill>
        <p:spPr>
          <a:xfrm>
            <a:off x="5357880" y="1544760"/>
            <a:ext cx="3200400" cy="488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Эмблема круг"/>
          <p:cNvPicPr/>
          <p:nvPr/>
        </p:nvPicPr>
        <p:blipFill>
          <a:blip r:embed="rId3"/>
          <a:stretch/>
        </p:blipFill>
        <p:spPr>
          <a:xfrm>
            <a:off x="684360" y="5516640"/>
            <a:ext cx="769680" cy="755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66160" y="5373000"/>
            <a:ext cx="2808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www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6"/>
              </a:rPr>
              <a:t>shkola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7"/>
              </a:rPr>
              <a:t>-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8"/>
              </a:rPr>
              <a:t>abv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9"/>
              </a:rPr>
              <a:t>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0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1"/>
              </a:rPr>
              <a:t>https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2"/>
              </a:rPr>
              <a:t>vk.com/shkola_ab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0T13:43:45Z</dcterms:created>
  <dc:creator>Helen</dc:creator>
  <dc:description/>
  <dc:language>en-US</dc:language>
  <cp:lastModifiedBy>Берюхов</cp:lastModifiedBy>
  <dcterms:modified xsi:type="dcterms:W3CDTF">2025-03-07T12:15:53Z</dcterms:modified>
  <cp:revision>7</cp:revision>
  <dc:subject/>
  <dc:title>Слайд 1</dc:title>
</cp:coreProperties>
</file>